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24322"/>
        <c:axId val="30477732"/>
      </c:barChart>
      <c:catAx>
        <c:axId val="47424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77732"/>
        <c:crosses val="autoZero"/>
        <c:auto val="1"/>
        <c:lblAlgn val="ctr"/>
        <c:lblOffset val="100"/>
        <c:noMultiLvlLbl val="0"/>
      </c:catAx>
      <c:valAx>
        <c:axId val="30477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24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917-F771-46D7-9632-B089497B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D91-CB18-45F6-B091-1421F713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CF0-78AB-40D9-A668-AD0B09DF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0C4-E479-4A11-9A08-9AC33EEC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ECE-01BD-4E80-A225-8B53F748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765-6CDA-4AF7-833E-953ADB8A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FAF-B8F7-4743-AAA8-DD35F45F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501-F205-4C3C-8905-F9A52B49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B0C-0629-49E0-9946-4FBC6FD0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FFF-E9C5-427F-8D4B-AE292727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EE6-C1DB-4A7B-8D02-55B234E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B7B-089D-404D-85F0-B3A63F56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63864-47D2-4F9A-8B6C-6F7D450BBC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